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01A-F50C-47E1-AD2D-3DC9FAE6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628-5A3B-45A7-B6A0-57F4B869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B02-FEEE-4AA4-9BA7-F32797B0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7F7-9210-42B1-9044-C27AD1A6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C7D-62CF-4614-86A1-E4C4BD1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E9D-5AF2-4833-8DEF-36BD10EA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171-BCCE-4FD2-B314-6070933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035-0A04-4C4A-B77F-ACC02DE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0E0-977C-411B-9B10-0977F896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808-2594-49EB-B923-0F7B622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0E3-54F2-445F-B8CD-469AB10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2CA-F738-4257-9EC3-3AFDC298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1B3BC-3ECE-4E23-8D34-D0D1FE696F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90520"/>
            <a:ext cx="96012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ry's Steam Powered Water Pump:  The world's first engine (169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8640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opolis”:  Manchester, England (184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6320" y="1600200"/>
            <a:ext cx="86662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comen's steam powered atmospheric engine (17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502272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nning Jenny (176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t's Steam Engine (17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908676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nning Mule (177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01320"/>
            <a:ext cx="9205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-age textile mill </a:t>
            </a:r>
            <a:br>
              <a:rPr sz="44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mbined spinning and weaving inventions with steam pow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92743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harlotte Dund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8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1880" y="2103480"/>
            <a:ext cx="8504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ffing Billy (1813):  an early railway steam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broakdale by Night” (1801)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Jakob Loutherbourg the Yo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3200" y="1600200"/>
            <a:ext cx="94266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1:50:17Z</dcterms:created>
  <dc:creator/>
  <dc:description/>
  <dc:language>en-US</dc:language>
  <cp:lastModifiedBy/>
  <cp:revision>0</cp:revision>
  <dc:subject/>
  <dc:title/>
</cp:coreProperties>
</file>